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DEF-7D7B-497D-BC56-380AA40E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1F3-FF86-448E-AEA0-DAA57AFF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07D-6670-436A-8E65-B9898EF7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804-EFCD-4E56-8563-7E084815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F23-576C-4463-8F9D-86601D6E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E95-5690-4640-99A1-602FC0F1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0EA-6184-4C82-A904-8C344981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5A5-2BA2-44CD-9379-EBB825B1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F8F-9CF6-4E28-AF25-C5BE0304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BD4-1F97-4135-B183-4E4B6443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8A9-3036-4BAA-A36D-EB34FCE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6EF-F8C9-4B57-8CA2-172A620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D791-028D-4568-A4D6-4B99B821985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opperplate Gothic Light"/>
              </a:rPr>
              <a:t>Ministério e Submissã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"/>
              </a:rPr>
              <a:t>Seja constituído, ordenado, designado por uma Igreja Local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rincípios do Ministério Pasto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493560" indent="-493560" algn="ctr">
              <a:spcBef>
                <a:spcPts val="1500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e46c0a"/>
                </a:solidFill>
                <a:latin typeface="Calibri"/>
              </a:rPr>
              <a:t>Perfil Bíblico do Pas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pt-BR" sz="4800" spc="-1" strike="noStrike">
                <a:solidFill>
                  <a:srgbClr val="ffffff"/>
                </a:solidFill>
                <a:latin typeface="Calibri"/>
              </a:rPr>
              <a:t>As Escrituras Sagradas descrevem um </a:t>
            </a:r>
            <a:r>
              <a:rPr b="1" lang="pt-BR" sz="4800" spc="-1" strike="noStrike" u="sng">
                <a:solidFill>
                  <a:srgbClr val="ffffff"/>
                </a:solidFill>
                <a:uFillTx/>
                <a:latin typeface="Calibri"/>
              </a:rPr>
              <a:t>perfil bastante nítido de como Deus enxerga o pastor e o que dele espera</a:t>
            </a:r>
            <a:r>
              <a:rPr b="0" lang="pt-BR" sz="4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fffff"/>
                </a:solidFill>
                <a:latin typeface="Berlin Sans FB Demi"/>
              </a:rPr>
              <a:t>Um Cristão Separado por Deus para o Ministéri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buClr>
                <a:srgbClr val="ddd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ddd9c3"/>
                </a:solidFill>
                <a:latin typeface="Calibri"/>
              </a:rPr>
              <a:t>Rom 1:1 - I Cor 9:16 - Ef 4:11-12 - I Tim 2:5-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e46c0a"/>
                </a:solidFill>
                <a:latin typeface="Rockwell Condensed"/>
              </a:rPr>
              <a:t>Um servo de Deu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Calibri"/>
              </a:rPr>
              <a:t>Rm 1.1 - I Cor 4.1 - Fp 1.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Espaço Reservado para Conteúdo 2"/>
          <p:cNvGrpSpPr/>
          <p:nvPr/>
        </p:nvGrpSpPr>
        <p:grpSpPr>
          <a:xfrm>
            <a:off x="237960" y="895320"/>
            <a:ext cx="8693280" cy="4987800"/>
            <a:chOff x="237960" y="895320"/>
            <a:chExt cx="8693280" cy="4987800"/>
          </a:xfrm>
        </p:grpSpPr>
        <p:pic>
          <p:nvPicPr>
            <p:cNvPr id="47" name="Espaço Reservado para Conteúdo 2" descr=""/>
            <p:cNvPicPr/>
            <p:nvPr/>
          </p:nvPicPr>
          <p:blipFill>
            <a:blip r:embed="rId2"/>
            <a:stretch/>
          </p:blipFill>
          <p:spPr>
            <a:xfrm>
              <a:off x="237960" y="895320"/>
              <a:ext cx="8693280" cy="49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8360" y="1125360"/>
              <a:ext cx="8229600" cy="45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0" spc="-1" strike="noStrike">
                  <a:solidFill>
                    <a:srgbClr val="558ed5"/>
                  </a:solidFill>
                  <a:latin typeface="Berlin Sans FB Demi"/>
                </a:rPr>
                <a:t>Um despenseiro do Evangelh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Calibri"/>
                </a:rPr>
                <a:t>I Cor.4:1-3; I Tm 1.3-5,11; 6.20-21;          II Tm 1.13,14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Espaço Reservado para Conteúdo 2"/>
          <p:cNvGrpSpPr/>
          <p:nvPr/>
        </p:nvGrpSpPr>
        <p:grpSpPr>
          <a:xfrm>
            <a:off x="237960" y="895320"/>
            <a:ext cx="8693280" cy="4987800"/>
            <a:chOff x="237960" y="895320"/>
            <a:chExt cx="8693280" cy="4987800"/>
          </a:xfrm>
        </p:grpSpPr>
        <p:pic>
          <p:nvPicPr>
            <p:cNvPr id="50" name="Espaço Reservado para Conteúdo 2" descr=""/>
            <p:cNvPicPr/>
            <p:nvPr/>
          </p:nvPicPr>
          <p:blipFill>
            <a:blip r:embed="rId2"/>
            <a:stretch/>
          </p:blipFill>
          <p:spPr>
            <a:xfrm>
              <a:off x="237960" y="895320"/>
              <a:ext cx="8693280" cy="49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68360" y="1125360"/>
              <a:ext cx="8229600" cy="45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600" spc="-1" strike="noStrike">
                  <a:solidFill>
                    <a:srgbClr val="000000"/>
                  </a:solidFill>
                  <a:latin typeface="Calibri"/>
                </a:rPr>
                <a:t>Um porta voz de Deu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400" spc="-1" strike="noStrike">
                  <a:solidFill>
                    <a:srgbClr val="000000"/>
                  </a:solidFill>
                  <a:latin typeface="Calibri"/>
                </a:rPr>
                <a:t>I Cor 2.1-5; II Cor 5.18-20; I Ts 2.13; II Tm 1.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ixaDeTexto 6"/>
          <p:cNvSpPr/>
          <p:nvPr/>
        </p:nvSpPr>
        <p:spPr>
          <a:xfrm>
            <a:off x="3132000" y="1413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000000"/>
                </a:solidFill>
                <a:latin typeface="Calibri"/>
              </a:rPr>
              <a:t>U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7"/>
          <p:cNvSpPr/>
          <p:nvPr/>
        </p:nvSpPr>
        <p:spPr>
          <a:xfrm>
            <a:off x="1547640" y="42210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ESPIRITUAL PARA OS CR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8"/>
          <p:cNvSpPr/>
          <p:nvPr/>
        </p:nvSpPr>
        <p:spPr>
          <a:xfrm>
            <a:off x="1403280" y="602136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I Cor 11.1; I Ts 1.6-8; Hb 13.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Espaço Reservado para Conteúdo 2"/>
          <p:cNvGrpSpPr/>
          <p:nvPr/>
        </p:nvGrpSpPr>
        <p:grpSpPr>
          <a:xfrm>
            <a:off x="237960" y="895320"/>
            <a:ext cx="8693280" cy="4987800"/>
            <a:chOff x="237960" y="895320"/>
            <a:chExt cx="8693280" cy="4987800"/>
          </a:xfrm>
        </p:grpSpPr>
        <p:pic>
          <p:nvPicPr>
            <p:cNvPr id="56" name="Espaço Reservado para Conteúdo 2" descr=""/>
            <p:cNvPicPr/>
            <p:nvPr/>
          </p:nvPicPr>
          <p:blipFill>
            <a:blip r:embed="rId2"/>
            <a:stretch/>
          </p:blipFill>
          <p:spPr>
            <a:xfrm>
              <a:off x="237960" y="895320"/>
              <a:ext cx="8693280" cy="49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68360" y="1125360"/>
              <a:ext cx="8229600" cy="45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0" spc="-1" strike="noStrike">
                  <a:solidFill>
                    <a:srgbClr val="ffffff"/>
                  </a:solidFill>
                  <a:latin typeface="Calibri"/>
                </a:rPr>
                <a:t>Um apascentador do Povo de Deu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Calibri"/>
                </a:rPr>
                <a:t>I Pe 5.1-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Espaço Reservado para Conteúdo 2"/>
          <p:cNvGrpSpPr/>
          <p:nvPr/>
        </p:nvGrpSpPr>
        <p:grpSpPr>
          <a:xfrm>
            <a:off x="237960" y="895320"/>
            <a:ext cx="8693280" cy="4987800"/>
            <a:chOff x="237960" y="895320"/>
            <a:chExt cx="8693280" cy="4987800"/>
          </a:xfrm>
        </p:grpSpPr>
        <p:pic>
          <p:nvPicPr>
            <p:cNvPr id="59" name="Espaço Reservado para Conteúdo 2" descr=""/>
            <p:cNvPicPr/>
            <p:nvPr/>
          </p:nvPicPr>
          <p:blipFill>
            <a:blip r:embed="rId2"/>
            <a:stretch/>
          </p:blipFill>
          <p:spPr>
            <a:xfrm>
              <a:off x="237960" y="895320"/>
              <a:ext cx="8693280" cy="49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8360" y="1125360"/>
              <a:ext cx="8229600" cy="45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600" spc="-1" strike="noStrike">
                  <a:solidFill>
                    <a:srgbClr val="ffffff"/>
                  </a:solidFill>
                  <a:latin typeface="Calibri"/>
                </a:rPr>
                <a:t>Fim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2:38:09Z</dcterms:created>
  <dc:creator>Secretaria</dc:creator>
  <dc:description/>
  <dc:language>en-US</dc:language>
  <cp:lastModifiedBy>IAP</cp:lastModifiedBy>
  <dcterms:modified xsi:type="dcterms:W3CDTF">2017-02-11T15:51:20Z</dcterms:modified>
  <cp:revision>63</cp:revision>
  <dc:subject/>
  <dc:title>MINISTÉRIO PASTORAL</dc:title>
</cp:coreProperties>
</file>